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316-8A9C-40AA-8289-4C51E5DB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76A-2071-42AD-B34C-AF0E8676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9B1-76C8-4A2F-BF36-8407804B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3CA-BD79-44EE-B96A-8AFC429F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9D09-ECFB-4C39-BD6A-38131DC4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F5B0-280A-4117-BEFE-4AB39807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D327-32D5-4AAF-8672-AF84E707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CDC5-E229-4A24-B0AE-2DB49C7B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E9D1-A095-4F6B-AFCE-5A8738F5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67C9-CFD9-44D0-B6A4-15A84FC4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7433-A9FA-4894-97B1-01C2D318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8D3-FC1D-45A4-8D59-F31B0294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441D-D7A9-462F-90BD-7EAA7108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437F-5C79-4DF9-843C-9EE42F2C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A3C3-D121-4667-BD80-0A656179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97B9-D5B5-4C87-87FF-EA881FE1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521C-3A64-4173-A166-6DE40081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BCA2F-793D-41F2-8E82-2C1CCD58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6C850-74CA-4A62-8E96-0981D79F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4C001-1DD9-450A-B312-31B0EFEF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DD645-E91C-40FA-BA02-A8B04B78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D5EF6-6E5C-45A2-A78D-BE6920D6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50F-00C0-430A-BD2B-3664F2EA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BFD2-490F-4F5A-9C58-8A7036E3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6EA3F-4DE6-4E60-8C32-1DFA1D93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8F9EA-6D15-41AA-B3DA-6DCBBBA7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59012-D29C-4B09-AAC4-2FB1032D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ED5DB-10D5-48BA-BE02-0CC5E4F2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BC2A7-80CC-4336-ACA2-6E5F8E83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06282-92BF-4DEC-A0BB-86DB9CBD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96427-8D3E-485F-82B4-37F7D1D7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BC95A-A3BA-4367-A004-758DC75D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E05D8-B7FF-4946-B6BD-7D452557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F94-57A7-49E9-BB89-1F3E677E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D7D39-BC31-42BF-8D41-37F4C251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2522A-6FED-4B0D-BFC8-5D8217E9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82CDE-A6F6-4E98-9FC3-0B1E2D1B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66E8D-5BFE-4A98-9BDD-3EC35199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DD0DF-F31E-4A92-9F74-A4474ACB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0702F-B0AA-4499-88A3-03901DE1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91920-FB2B-4256-A1BF-582629BB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8E691-0542-4B50-A747-67486CD9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FF9CB-8399-4517-86CE-719C93C3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BBD2E-3446-41BB-BDE6-75671E6A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C9A5-68BE-4EA7-9752-ADFD2A81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FA69C-E45A-49F9-8DDD-CFEDC780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3A286-FC84-4313-9DBD-076877D3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DC3FD-DD07-4EAB-A683-9EDA948D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4A28E-C938-4467-A3D9-67F19D54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8200F-4BAA-4F83-8A62-7D9CD3B4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2539A-53B1-4A78-B001-F5FB901E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158E2-FB22-4AF3-B4AC-EC94C9DD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5B55E-C4CF-4631-90DD-B1028B76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77A4F-7799-4520-9351-7645E12D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10246-4A01-47C5-8F2F-062D3428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978-CDDC-48D4-85AC-FE7CE4D0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5D7DC-59CD-4C16-A6A5-AB515479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25E1D-55D7-4984-8D3E-B91CF5C7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40344-4164-4B09-BE26-983621A4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67C9F-59DE-4F4A-9BD4-570DA54C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2BE10-EC18-467C-B040-9F2A4334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53787-D7EE-4F3E-A5F6-23CA912F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E1AB8-EB03-4FEA-89EB-0E24B99B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FF133-5DB5-4D42-A6B6-9726234A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957A6-BE97-4180-9019-85C94F63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ABCA8-5E01-4D22-8D86-D06C0665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C02-FF42-4F8A-B903-C1F1ED94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E79A2-F700-4415-98BC-5BCA723B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34CCE-3C0D-49D6-AF5F-A13A9CB1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B3414-5AFD-4B03-8E62-036910CA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E76F5-6338-4C2A-93B6-FC004A18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F7520-597F-4590-9F4A-08205608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1F06E-8970-4EF5-B48A-0A5B1D7A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FE10E-484B-41A6-8BE7-D1BBE8DD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FD6A1-5E36-49F7-AAC3-C4CA8931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F0E53-ED54-4A9F-A944-D7EE23E0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C1D5C-6D16-4492-AE55-8BCCDEBA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00E2-EABD-4768-B0E5-4AB1C0FC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5FC95-DB2E-42FB-B90F-58B58097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872A1-969F-4FFB-BF1D-C1CB2ACC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65FA8-5F7D-4DD5-9F4B-56F622C4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EE357-7564-4FDD-8A48-3F0DAB3D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122AB-8D50-4698-80A9-EBF93B12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8E8B4-1632-49E5-B176-03F2D33E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2A618-4966-4C33-97AD-9EA2F5FC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2E64B-875A-4223-88D6-2EC5B49B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A8F47-D717-4C8A-AB23-4EC8311D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D967F-35A6-44A7-9CCA-17F262B4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AEAA-BBED-44D6-817E-FAD1D9A4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1094A-5319-4C3A-BBA8-EC94BEA6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01016-9E1B-44B1-A340-C767B94F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F3D11-AE41-4C45-8018-305299BB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B7029-A869-46F5-94E4-91A6D7B0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0DCB5-1A8B-4490-AA2B-D4BDCCE5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124F0-6625-47D2-B909-D4655819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90F10-F8C4-4F02-943F-86DA7766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C29F-E44E-430D-9F75-3D80D814E848}" type="slidenum"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8887-34DD-4B8F-84A2-5B5B809DF667}" type="slidenum"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4d4d6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4d4d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7B16-CFB9-4326-B332-7D59D2267644}" type="slidenum">
              <a:rPr b="0" lang="en-US" sz="14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E04A-546A-4920-8616-F9B98FDB17DD}" type="slidenum"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80EA-D400-4D80-A1B6-74CCCAAF0FDB}" type="slidenum"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B480-2D65-466C-9E54-F45150BF8F56}" type="slidenum"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4d4d6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4d4d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0540-FD3A-44F0-96C7-72904A162155}" type="slidenum">
              <a:rPr b="0" lang="en-US" sz="14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60b5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60b5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549fb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60b5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4866-2A26-45FA-B068-B956DB554A4F}" type="slidenum">
              <a:rPr b="0" lang="en-US" sz="14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Diary of a Wimpy Kid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by Jeff Kinney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Presentation by Zach Hafne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Genre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genre of this book is a hilarious fiction about an average life of a middle school student of every day 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Summary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reg Heffley tells about his daily life. He tells you that he will be rich and famous and has a very embarrassing friend named Rowley. As everything goes wrong for Greg, Rowley becomes popular. Greg takes a drastic measure to save his friend from ultimate humiliation and they are friends yet aga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Pictures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pic>
        <p:nvPicPr>
          <p:cNvPr id="359" name="Content Placeholder 3" descr="gregs diary.jpg"/>
          <p:cNvPicPr/>
          <p:nvPr/>
        </p:nvPicPr>
        <p:blipFill>
          <a:blip r:embed="rId1"/>
          <a:stretch/>
        </p:blipFill>
        <p:spPr>
          <a:xfrm>
            <a:off x="2114640" y="1279440"/>
            <a:ext cx="321300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Recommendation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 would recommend this book to my brother Ben. Because he always loves a good laugh and this book guarantees one good laug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Bookman Old Style"/>
              </a:rPr>
              <a:t>Bonus</a:t>
            </a:r>
            <a:endParaRPr b="0" lang="en-US" sz="3200" spc="-1" strike="noStrike">
              <a:solidFill>
                <a:srgbClr val="5a6378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 connections I made while reading this book were, that Greg was like the only one of his family who understands maturity and only has 1 friend. It seems that way with my brothers about maturity and I only have like one friend who I hang out wit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y favorite part was when Greg told every one that he threw away the cheese and had gotten the cheese touch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9:26:23Z</dcterms:created>
  <dc:creator>Chris Hafner</dc:creator>
  <dc:description/>
  <dc:language>en-US</dc:language>
  <cp:lastModifiedBy>Owner</cp:lastModifiedBy>
  <dcterms:modified xsi:type="dcterms:W3CDTF">2012-05-06T21:00:01Z</dcterms:modified>
  <cp:revision>3</cp:revision>
  <dc:subject/>
  <dc:title>Diary of a Wimpy Kid</dc:title>
</cp:coreProperties>
</file>